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A78-E720-4F5E-A274-BCDABBA0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44C-F4B3-41EB-AF09-852461D0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868-34CB-44E9-8594-359DDC8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0A4-68E2-435E-BB56-DE8B688F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AF9-DA1F-43C1-B64C-13EA21F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57D-7D8D-4536-911D-F5FFAAC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DF8-3D4B-4D9D-B34C-AEA5425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578-A4A3-42E8-8A17-E1749C25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1D4-5D10-4F5D-AE7A-904E24B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FFF-FBF4-46CB-88AC-FFC779D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6B2-B3A3-4D46-B3B0-DD6B220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956-0B1E-416B-B6E9-701ABED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13F-2198-46E9-9999-C5A7CE87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tr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(amount of stuff)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867280" y="19051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se are our BAS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eters are in 1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icograms are there in 1 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m are there in 2 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km are there in a G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watts are in 2.21 Gigawat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1219320"/>
          <a:ext cx="4419360" cy="5105160"/>
        </p:xfrm>
        <a:graphic>
          <a:graphicData uri="http://schemas.openxmlformats.org/drawingml/2006/table">
            <a:tbl>
              <a:tblPr/>
              <a:tblGrid>
                <a:gridCol w="831600"/>
                <a:gridCol w="785880"/>
                <a:gridCol w="622440"/>
                <a:gridCol w="2179440"/>
              </a:tblGrid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g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l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k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er, Liter or Me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l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(m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0 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$3.75 to nick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there are 20 nickels in every do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600200" y="3962520"/>
                <a:ext cx="56404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ickels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nickel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.5 kg to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2m to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5cm to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mm to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Mg to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ough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2 km/s to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75kg/ml to 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2m/s to mm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51:56Z</dcterms:created>
  <dc:creator>Fio Babaganouch</dc:creator>
  <dc:description/>
  <dc:language>en-US</dc:language>
  <cp:lastModifiedBy>"%username%"</cp:lastModifiedBy>
  <dcterms:modified xsi:type="dcterms:W3CDTF">2014-09-02T13:10:50Z</dcterms:modified>
  <cp:revision>6</cp:revision>
  <dc:subject/>
  <dc:title>The Metric System</dc:title>
</cp:coreProperties>
</file>